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3D8-2EC8-4651-91B3-3618CA8D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3AB-3D62-453F-9648-4B8555EB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C4F-0F7F-416E-89B5-4EC4526B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4D8-EC86-472F-A711-CAD9557A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052-EA45-49D1-80BA-04FFD8F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B42-1BD2-4EEB-8130-86633E1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EF2-7932-4308-A8C4-2CE28227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89D-0DF3-41F3-B7BA-DC2A8489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54E-5E8A-4370-901D-0D025310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AC6-EFEE-4828-8496-351D36A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D22-FE8D-48CA-9EEF-2B74FAA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F6D-01B8-4873-AA84-7196A4B6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002-19BE-49AB-9788-49792731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images.google.com/imgres?imgurl=http://procastinando.files.wordpress.com/2008/03/futurama_bender.jpg&amp;imgrefurl=http://procastinando.wordpress.com/&amp;h=406&amp;w=392&amp;sz=27&amp;hl=en&amp;start=37&amp;tbnid=f6uuYnz2s9gf5M:&amp;tbnh=124&amp;tbnw=120&amp;prev=/images%3Fq%3Dbender%2Bfuturama%26start%3D20%26gbv%3D2%26ndsp%3D20%26hl%3Den%26sa%3DN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8320" y="4724280"/>
            <a:ext cx="3200400" cy="1470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y Nick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0"/>
            <a:ext cx="454356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alligraphy"/>
              </a:rPr>
              <a:t>Cat n Mouse Gam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alligraphy"/>
              <a:ea typeface="Lucida Calligraph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647120" y="0"/>
            <a:ext cx="1496880" cy="141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843000">
            <a:off x="186120" y="-186480"/>
            <a:ext cx="115092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4496400">
            <a:off x="7663320" y="537732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10095600">
            <a:off x="0" y="5493960"/>
            <a:ext cx="14479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5 0.04838 C -0.41893 0.07014 -0.42223 0.09305 -0.43021 0.11342 C -0.43542 0.14884 -0.44375 0.18426 -0.45139 0.21852 C -0.44862 0.24583 -0.45226 0.25463 -0.43907 0.26157 C -0.43299 0.26944 -0.41754 0.27708 -0.41754 0.27754 C -0.40313 0.29491 -0.38455 0.29838 -0.36823 0.3081 C -0.35174 0.32778 -0.37726 0.29838 -0.35382 0.3206 C -0.33803 0.33588 -0.35382 0.32592 -0.34132 0.33287 C -0.33907 0.33912 -0.33664 0.3456 -0.33438 0.35162 C -0.33316 0.35486 -0.33073 0.36088 -0.33073 0.36134 C -0.32587 0.40092 -0.33125 0.35463 -0.32726 0.43842 C -0.32657 0.45254 -0.32396 0.45764 -0.32188 0.47222 C -0.31823 0.49699 -0.31546 0.52176 -0.31129 0.54676 C -0.31198 0.59606 -0.30469 0.62893 -0.31823 0.66412 C -0.33143 0.73403 -0.38803 0.74259 -0.42292 0.75046 C -0.45608 0.75856 -0.48941 0.75278 -0.52257 0.75393 C -0.54028 0.76111 -0.54809 0.76389 -0.56702 0.7662 C -0.61355 0.78912 -0.66077 0.80625 -0.7073 0.83102 C -0.72223 0.83935 -0.73577 0.85578 -0.74983 0.86852 C -0.77257 0.88796 -0.79914 0.89606 -0.81737 0.93032 C -0.829 0.95185 -0.83108 0.96736 -0.84046 0.98866 C -0.84254 1.00416 -0.84393 1.00995 -0.84393 1.02893 C -0.84393 1.04791 -0.84341 1.06666 -0.84219 1.08472 C -0.84011 1.11528 -0.82448 1.13796 -0.81389 1.15926 C -0.80539 1.17592 -0.79757 1.20231 -0.78559 1.21203 C -0.76823 1.22569 -0.74896 1.22754 -0.73039 1.23055 C -0.71198 1.22847 -0.69341 1.22754 -0.67535 1.2243 C -0.63334 1.21713 -0.57257 1.18541 -0.53316 1.15625 C -0.5099 1.13912 -0.48299 1.12639 -0.46216 1.10023 C -0.45382 1.09028 -0.4474 1.07639 -0.43907 1.06643 C -0.40834 1.02731 -0.3823 0.98727 -0.36823 0.92407 C -0.36511 0.88703 -0.35973 0.83333 -0.34653 0.80324 C -0.34358 0.78773 -0.3382 0.77824 -0.33264 0.7662 C -0.32188 0.74398 -0.33646 0.77106 -0.32553 0.74467 C -0.32136 0.73495 -0.3158 0.725 -0.31129 0.7169 C -0.30417 0.69259 -0.29046 0.68055 -0.27934 0.66412 C -0.27032 0.65069 -0.26337 0.63703 -0.25625 0.62083 C -0.25139 0.59653 -0.25243 0.58611 -0.25417 0.55578 C -0.25504 0.54606 -0.25955 0.53727 -0.26164 0.52801 C -0.26476 0.46991 -0.28386 0.40254 -0.30764 0.36088 C -0.31806 0.34282 -0.33056 0.31944 -0.34514 0.31458 C -0.37084 0.28009 -0.40452 0.27199 -0.43542 0.26157 C -0.49063 0.24305 -0.54653 0.24213 -0.60261 0.23727 C -0.66077 0.23842 -0.725 0.23148 -0.78368 0.25254 C -0.79132 0.25949 -0.79879 0.26065 -0.80678 0.26481 C -0.83386 0.2794 -0.86198 0.29236 -0.8882 0.31134 C -0.90243 0.32176 -0.91407 0.34004 -0.929 0.34838 C -0.94011 0.35486 -0.93994 0.35347 -0.95018 0.36389 C -0.97223 0.38541 -0.96059 0.37963 -0.97518 0.38541 C -0.97761 0.38773 -0.98004 0.38958 -0.9823 0.3919 C -0.98594 0.39583 -0.99306 0.40393 -0.99306 0.40416 L -0.65747 0.67662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C -0.00729 0.00324 -0.01423 0.00625 -0.02152 0.0088 C -0.0684 0.00741 -0.10451 0.00463 -0.14826 -2.59259E-006 C -0.15382 -0.00185 -0.15954 -0.00254 -0.16493 -0.00463 C -0.1875 -0.01366 -0.15121 -0.00486 -0.18159 -0.01111 C -0.22309 -0.03009 -0.26892 -0.02986 -0.31163 -0.04004 C -0.33784 -0.04629 -0.36406 -0.0662 -0.38819 -0.08009 C -0.39184 -0.08217 -0.39479 -0.08611 -0.39826 -0.08889 C -0.41597 -0.10254 -0.43073 -0.11597 -0.44652 -0.13333 C -0.48611 -0.17685 -0.51857 -0.23264 -0.55156 -0.28449 C -0.56024 -0.29815 -0.57378 -0.30741 -0.58333 -0.32014 C -0.58663 -0.33472 -0.58073 -0.34815 -0.57847 -0.36227 C -0.57951 -0.37407 -0.57899 -0.38657 -0.58159 -0.39792 C -0.58385 -0.40787 -0.61093 -0.41273 -0.61493 -0.41342 C -0.62378 -0.41273 -0.63298 -0.41342 -0.64166 -0.41111 C -0.646 -0.40995 -0.64913 -0.40417 -0.65329 -0.40231 C -0.65694 -0.39745 -0.6618 -0.39444 -0.66493 -0.38889 C -0.67083 -0.37847 -0.66944 -0.37384 -0.67326 -0.36227 C -0.67413 -0.35972 -0.67569 -0.35787 -0.67656 -0.35555 C -0.67795 -0.35208 -0.67899 -0.34815 -0.67986 -0.34444 C -0.68437 -0.31018 -0.67691 -0.35926 -0.68993 -0.30903 C -0.69618 -0.28449 -0.70208 -0.26018 -0.70833 -0.23565 C -0.70781 -0.22963 -0.70816 -0.22338 -0.70659 -0.21782 C -0.70538 -0.21319 -0.69913 -0.20949 -0.69652 -0.20671 C -0.68281 -0.19259 -0.6717 -0.18217 -0.65659 -0.16898 C -0.646 -0.15995 -0.63836 -0.15185 -0.62656 -0.14676 C -0.60347 -0.12708 -0.57951 -0.11389 -0.55486 -0.09792 C -0.55434 -0.0956 -0.55225 -0.09305 -0.55329 -0.0912 C -0.55468 -0.08866 -0.55763 -0.08889 -0.55989 -0.08889 C -0.56666 -0.08889 -0.58298 -0.09977 -0.58819 -0.10231 C -0.61805 -0.11643 -0.65434 -0.12616 -0.675 -0.16018 C -0.67448 -0.17708 -0.67465 -0.19421 -0.67326 -0.21111 C -0.67274 -0.21597 -0.66909 -0.21967 -0.66823 -0.22454 C -0.66354 -0.25 -0.65729 -0.27662 -0.64826 -0.3 C -0.64704 -0.30903 -0.6467 -0.31805 -0.64496 -0.32685 C -0.64097 -0.34699 -0.63437 -0.36667 -0.62986 -0.3868 C -0.625 -0.4081 -0.62204 -0.43009 -0.61666 -0.45116 C -0.61371 -0.46319 -0.60763 -0.47523 -0.60486 -0.4868 C -0.60173 -0.50046 -0.596 -0.51435 -0.58819 -0.52454 C -0.58593 -0.53403 -0.5809 -0.53866 -0.57656 -0.54676 C -0.55468 -0.58773 -0.52413 -0.59907 -0.48819 -0.60463 C -0.47829 -0.60417 -0.44201 -0.60486 -0.42656 -0.59792 C -0.40503 -0.58842 -0.38402 -0.5743 -0.36163 -0.56898 C -0.34722 -0.56134 -0.33298 -0.55532 -0.31823 -0.54907 C -0.30225 -0.54236 -0.28645 -0.53287 -0.26996 -0.52893 C -0.25434 -0.52083 -0.23854 -0.51342 -0.22326 -0.50463 C -0.20451 -0.49375 -0.18715 -0.48009 -0.16666 -0.47569 C -0.15052 -0.46713 -0.13229 -0.46366 -0.11666 -0.45347 C -0.10902 -0.44861 -0.10503 -0.44444 -0.09652 -0.44236 C -0.08402 -0.43588 -0.07552 -0.42569 -0.06493 -0.41574 C -0.05052 -0.40185 -0.03454 -0.38796 -0.02152 -0.37129 C -0.021 -0.36898 -0.01892 -0.36643 -0.01996 -0.36458 C -0.02066 -0.36342 -0.03246 -0.36088 -0.03489 -0.36018 C -0.04895 -0.35555 -0.03038 -0.36088 -0.04496 -0.35347 C -0.04965 -0.35116 -0.05486 -0.35069 -0.05989 -0.34907 C -0.08142 -0.33449 -0.05069 -0.3544 -0.075 -0.34236 C -0.07691 -0.34143 -0.07812 -0.33889 -0.07986 -0.33796 C -0.08211 -0.33657 -0.09323 -0.33403 -0.09496 -0.33333 C -0.10295 -0.33079 -0.11024 -0.32685 -0.11823 -0.32454 C -0.12257 -0.32176 -0.12743 -0.32106 -0.13159 -0.31782 C -0.13368 -0.3162 -0.13472 -0.31273 -0.13663 -0.31111 C -0.14739 -0.30162 -0.16614 -0.3044 -0.17829 -0.30231 C -0.18854 -0.29861 -0.19843 -0.29398 -0.20833 -0.28889 C -0.21423 -0.28588 -0.22656 -0.28241 -0.22656 -0.28241 C -0.26163 -0.28449 -0.26909 -0.28333 -0.29826 -0.3 C -0.30833 -0.30579 -0.30868 -0.30301 -0.31823 -0.31111 C -0.32586 -0.31759 -0.33038 -0.32731 -0.33663 -0.33565 C -0.33993 -0.34699 -0.34375 -0.35741 -0.34652 -0.36898 C -0.34704 -0.3787 -0.34791 -0.38819 -0.34843 -0.39792 C -0.34965 -0.44236 -0.34948 -0.4868 -0.35156 -0.53125 C -0.35208 -0.54305 -0.35972 -0.55625 -0.36319 -0.56667 C -0.37604 -0.60463 -0.39184 -0.63241 -0.41823 -0.65555 C -0.44184 -0.67616 -0.44878 -0.69398 -0.47829 -0.7 C -0.4927 -0.70671 -0.50816 -0.70903 -0.52326 -0.71111 C -0.53888 -0.71042 -0.55468 -0.71088 -0.56996 -0.70903 C -0.5809 -0.70764 -0.58923 -0.69421 -0.60017 -0.6912 C -0.60277 -0.68889 -0.60573 -0.68704 -0.60833 -0.68449 C -0.61024 -0.68264 -0.61128 -0.67963 -0.61319 -0.67778 C -0.63732 -0.65347 -0.60781 -0.68588 -0.62829 -0.66667 C -0.63993 -0.65579 -0.65086 -0.64329 -0.66319 -0.63333 C -0.66909 -0.62292 -0.67691 -0.61898 -0.68333 -0.60903 C -0.68524 -0.60625 -0.68628 -0.60254 -0.68819 -0.6 C -0.69357 -0.59282 -0.70121 -0.5875 -0.70659 -0.58009 C -0.71579 -0.56759 -0.70243 -0.57824 -0.71666 -0.56898 C -0.72326 -0.55972 -0.73003 -0.55185 -0.73663 -0.54236 C -0.74027 -0.53704 -0.74826 -0.52685 -0.74826 -0.52685 C -0.75086 -0.51713 -0.75329 -0.51042 -0.75989 -0.50463 C -0.76406 -0.48287 -0.75816 -0.51042 -0.76666 -0.48449 C -0.77326 -0.46435 -0.77569 -0.44213 -0.78333 -0.42222 C -0.78472 -0.41088 -0.78663 -0.4 -0.78819 -0.38889 C -0.78993 -0.35926 -0.7927 -0.32963 -0.79496 -0.3 C -0.79375 -0.25717 -0.80208 -0.21111 -0.78993 -0.17129 C -0.78159 -0.14375 -0.76614 -0.11967 -0.75 -0.1 C -0.71961 -0.06319 -0.68906 -0.03958 -0.65156 -0.01782 C -0.62118 -0.000230000000000001 -0.56145 -0.00162 -0.52986 -2.59259E-006 C -0.51961 0.01366 -0.52465 0.0081 -0.51493 0.01759 C -0.50954 0.02847 -0.50121 0.03634 -0.49496 0.04653 C -0.48698 0.05972 -0.48194 0.07477 -0.475 0.08889 C -0.47187 0.09537 -0.4651 0.09699 -0.45989 0.1 C -0.45069 0.10533 -0.43663 0.11111 -0.42656 0.11111 L -0.07986 0.09769 E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-0.2912 C 0.06302 -0.55486 0.12396 -0.81828 0.10034 -0.88449 C 0.07691 -0.95069 -0.20417 -0.65347 -0.13959 -0.68912 C -0.07483 -0.72477 0.43229 -1.01574 0.48889 -1.09791 C 0.54548 -1.18009 0.24132 -1.18935 0.20052 -1.1824 C 0.15937 -1.17546 0.20069 -1.11574 0.24218 -1.0557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18 0.0081 C 0.06598 0.01203 0.05712 0.0162 0.17986 0.08148 C 0.3033 0.14676 0.85157 0.37476 0.81355 0.3993 C 0.77552 0.42384 0.04514 0.15509 -0.04826 0.22801 C -0.14166 0.30092 0.18299 0.75787 0.25348 0.83703 C 0.32396 0.9162 0.34931 0.80995 0.37518 0.7037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C -0.03438 -0.14676 -0.06875 -0.29305 -0.08802 -0.30764 C -0.10729 -0.32245 -0.12899 -0.00463 -0.11597 -0.08842 C -0.10295 -0.17222 -0.17899 -0.67754 -0.0092 -0.81065 C 0.16076 -0.94352 0.53247 -0.91504 0.90434 -0.8868 E">
                                      <p:cBhvr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22222E-006 C -0.00817 0.01528 -0.01268 0.03079 -0.01997 0.04676 C -0.02206 0.06389 -0.02501 0.08032 -0.02657 0.09769 C -0.02588 0.11111 -0.02779 0.12569 -0.02327 0.13773 C -0.02084 0.14398 -0.01494 0.15556 -0.01494 0.15556 C -0.01181 0.17153 -0.01563 0.15787 -0.00834 0.17106 C 0.00034 0.18681 0.00694 0.20671 0.0217 0.21343 C 0.02917 0.22315 0.03663 0.23102 0.0467 0.23565 C 0.05799 0.25023 0.04497 0.23565 0.05833 0.24444 C 0.06354 0.24769 0.06858 0.25579 0.0717 0.26227 C 0.07465 0.28519 0.075 0.28403 0.075 0.31782 C 0.075 0.41574 0.08906 0.39792 0.05833 0.43333 C 0.05035 0.44259 0.05712 0.43866 0.04844 0.44213 C 0.03299 0.45625 -0.00487 0.44722 -0.01668 0.44676 C -0.02848 0.4412 -0.03213 0.44259 -0.04654 0.44444 C -0.05435 0.44815 -0.05921 0.45671 -0.06494 0.46435 C -0.08091 0.48565 -0.08855 0.51667 -0.10834 0.53333 C -0.11876 0.54213 -0.13265 0.53843 -0.14497 0.54005 C -0.15088 0.54259 -0.15053 0.5419 -0.15661 0.54676 C -0.16008 0.54954 -0.16668 0.55556 -0.16668 0.55556 C -0.16546 0.56528 -0.16494 0.575 -0.1632 0.58426 C -0.16129 0.59421 -0.15452 0.60069 -0.15001 0.6088 C -0.14428 0.61921 -0.14098 0.63519 -0.13664 0.64676 C -0.13421 0.6625 -0.12952 0.675 -0.12327 0.68889 C -0.12102 0.70046 -0.11459 0.71481 -0.12657 0.71991 C -0.16737 0.71875 -0.20348 0.7162 -0.24324 0.71343 C -0.2514 0.70972 -0.25991 0.70764 -0.26824 0.7044 C -0.27206 0.70255 -0.27605 0.70162 -0.27987 0.7 C -0.28317 0.69861 -0.28994 0.6956 -0.28994 0.6956 C -0.29306 0.69144 -0.29688 0.68843 -0.30001 0.68449 C -0.30418 0.67894 -0.30643 0.66968 -0.30834 0.66204 C -0.30782 0.65347 -0.30782 0.64444 -0.30661 0.63565 C -0.304 0.61597 -0.28872 0.59537 -0.27987 0.58009 C -0.27449 0.5706 -0.27206 0.56296 -0.26494 0.55556 C -0.26199 0.54769 -0.25869 0.54282 -0.25487 0.53565 C -0.25175 0.52269 -0.25418 0.53102 -0.24654 0.51111 C -0.24116 0.49699 -0.23786 0.47986 -0.23491 0.46435 C -0.23595 0.4287 -0.23629 0.39583 -0.24497 0.36227 C -0.24984 0.31991 -0.27154 0.28565 -0.28664 0.24884 C -0.3007 0.21435 -0.30695 0.17407 -0.32154 0.14005 C -0.32622 0.12894 -0.33664 0.1037 -0.34324 0.0912 C -0.34688 0.08426 -0.35209 0.0787 -0.35487 0.07106 C -0.36199 0.05185 -0.36077 0.04977 -0.37154 0.04005 C -0.3705 0.02755 -0.3698 0.01481 -0.36824 0.00231 C -0.36563 -0.01806 -0.33977 -0.05972 -0.32501 -0.06435 C -0.3172 -0.07477 -0.30574 -0.06644 -0.29827 -0.07546 L -0.20487 0.06898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C -0.175 -0.32893 -0.34983 -0.65833 -0.45174 -0.6868 C -0.55365 -0.71504 -0.65851 -0.24213 -0.61181 -0.17106 C -0.5651 -0.10046 -0.22726 -0.15833 -0.1717 -0.26203 C -0.11615 -0.36574 -0.21684 -0.84629 -0.27847 -0.79328 C -0.3401 -0.74027 -0.52535 -0.08958 -0.54167 0.05556 C -0.55799 0.20093 -0.40417 0.07477 -0.37674 0.07801 E"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1162 C 0.09549 0.14051 0.08889 0.16365 0.08334 0.18726 C 0.08125 0.19629 0.079 0.20509 0.07674 0.21389 C 0.07483 0.22129 0.06997 0.23611 0.06997 0.23611 C 0.06789 0.25439 0.06337 0.2706 0.06164 0.28958 C 0.06216 0.33055 0.04948 0.43472 0.07674 0.48726 C 0.08125 0.50578 0.07813 0.49676 0.08664 0.51389 C 0.09636 0.55324 0.11962 0.58217 0.14497 0.60509 C 0.14688 0.60671 0.14792 0.61018 0.15 0.61157 C 0.15313 0.61412 0.15677 0.61458 0.16007 0.6162 C 0.1724 0.62245 0.18577 0.62847 0.1967 0.63842 C 0.20539 0.64652 0.21389 0.66041 0.22327 0.66736 C 0.22778 0.67083 0.23212 0.67476 0.23664 0.67824 C 0.24948 0.68796 0.23247 0.6699 0.24827 0.68495 C 0.25018 0.6868 0.25139 0.68981 0.2533 0.69166 C 0.25486 0.69305 0.25677 0.69305 0.25834 0.69398 C 0.26059 0.69514 0.26285 0.69629 0.26476 0.69814 C 0.2717 0.70486 0.27674 0.71018 0.28507 0.71389 C 0.30539 0.7324 0.33264 0.73842 0.3566 0.74074 C 0.37622 0.74861 0.38907 0.73402 0.4066 0.72939 C 0.41493 0.72407 0.42327 0.72152 0.4316 0.7162 C 0.43802 0.71203 0.44289 0.70764 0.45 0.70509 C 0.45365 0.7 0.45799 0.69629 0.46164 0.69166 C 0.46736 0.68379 0.47101 0.67476 0.47657 0.66736 C 0.48368 0.64838 0.49063 0.62893 0.4967 0.60949 C 0.49809 0.60532 0.49844 0.60023 0.5 0.59629 C 0.50226 0.59051 0.50573 0.58611 0.50834 0.58032 C 0.51025 0.57615 0.51198 0.57199 0.51337 0.56713 C 0.51684 0.55625 0.52327 0.53402 0.52327 0.53402 C 0.52605 0.51597 0.52917 0.49143 0.53664 0.47615 C 0.53993 0.45532 0.56389 0.42222 0.575 0.4074 C 0.59879 0.37546 0.62483 0.35486 0.65504 0.33611 C 0.67622 0.32291 0.69497 0.30509 0.71667 0.29375 C 0.7224 0.28634 0.72605 0.28726 0.7316 0.28055 C 0.73733 0.27361 0.74341 0.26365 0.75 0.25833 C 0.75417 0.25463 0.75868 0.25162 0.76337 0.24953 C 0.76667 0.24814 0.77327 0.24514 0.77327 0.24514 C 0.77848 0.23842 0.78282 0.23819 0.78993 0.23611 C 0.79427 0.23078 0.79775 0.22731 0.8033 0.225 C 0.80868 0.2324 0.8099 0.24629 0.81164 0.25625 C 0.81736 0.28935 0.82032 0.32314 0.82674 0.35625 C 0.8316 0.38032 0.84011 0.4074 0.85174 0.42731 C 0.85677 0.43588 0.86216 0.44259 0.86667 0.45162 C 0.86615 0.49027 0.86493 0.52893 0.86493 0.56713 C 0.86493 0.58518 0.86337 0.60347 0.86667 0.6206 C 0.86736 0.62453 0.87084 0.61458 0.87327 0.61157 C 0.87813 0.60601 0.88282 0.60254 0.88837 0.59838 C 0.8948 0.58518 0.89931 0.57615 0.90174 0.56041 C 0.90018 0.55023 0.89757 0.54282 0.89341 0.53402 C 0.8908 0.5287 0.88507 0.51851 0.88507 0.51851 C 0.88073 0.50208 0.88698 0.52129 0.8783 0.5074 C 0.87535 0.50277 0.87396 0.49676 0.8717 0.49166 C 0.86927 0.48588 0.86493 0.47407 0.86493 0.47407 C 0.86094 0.45139 0.85539 0.43032 0.85174 0.4074 C 0.85052 0.4 0.84827 0.38518 0.84827 0.38518 C 0.84514 0.34097 0.8566 0.29259 0.83507 0.25625 C 0.83108 0.23101 0.83698 0.25532 0.8283 0.24051 C 0.82726 0.23889 0.82761 0.23611 0.82674 0.23402 C 0.82309 0.22546 0.8191 0.21736 0.81493 0.20926 C 0.81146 0.20301 0.80695 0.19791 0.8033 0.19166 C 0.80209 0.18958 0.80122 0.18726 0.8 0.18518 C 0.79566 0.17777 0.79115 0.17037 0.78664 0.16296 C 0.78125 0.15393 0.77344 0.14768 0.76841 0.13842 C 0.75834 0.11944 0.74705 0.10115 0.73334 0.08726 C 0.7323 0.08426 0.73177 0.08078 0.73004 0.07847 C 0.7257 0.07268 0.70799 0.06088 0.70174 0.05625 C 0.68594 0.04421 0.70556 0.05879 0.69341 0.04722 C 0.6875 0.04166 0.68108 0.03703 0.675 0.03171 C 0.67309 0.02986 0.67188 0.02708 0.66997 0.025 C 0.66337 0.01736 0.65591 0.01226 0.64827 0.0074 C 0.63976 -0.00463 0.62622 -0.00718 0.61493 -0.01274 C 0.59375 -0.02338 0.56927 -0.03149 0.5467 -0.03704 C 0.52761 -0.05 0.50087 -0.05093 0.48004 -0.05278 C 0.46164 -0.05209 0.44341 -0.05186 0.425 -0.05047 C 0.41598 -0.04977 0.40712 -0.04792 0.39827 -0.04607 C 0.39271 -0.04491 0.3816 -0.04167 0.3816 -0.04167 C 0.35591 -0.02732 0.33334 -0.01135 0.31164 0.01157 C 0.28143 0.04421 0.26684 0.1037 0.2533 0.14953 C 0.24289 0.18495 0.2467 0.16226 0.23993 0.19629 C 0.22188 0.28773 0.22535 0.38518 0.21493 0.47847 C 0.21545 0.50509 0.2158 0.53171 0.21667 0.5581 C 0.21702 0.56921 0.22014 0.58819 0.2217 0.59838 C 0.22223 0.60139 0.22327 0.6074 0.22327 0.6074 C 0.22275 0.6206 0.22344 0.63379 0.2217 0.64699 C 0.22084 0.65416 0.20973 0.67291 0.2066 0.67824 C 0.20486 0.68125 0.20365 0.68426 0.20174 0.68726 C 0.19757 0.69328 0.19236 0.69861 0.18837 0.70509 C 0.179 0.72037 0.17066 0.73611 0.16164 0.75162 C 0.14601 0.77847 0.16389 0.74444 0.14827 0.76736 C 0.13785 0.78287 0.1316 0.79976 0.11841 0.8118 C 0.11424 0.82245 0.11164 0.82129 0.1066 0.82963 C 0.10261 0.83588 0.09879 0.84282 0.09497 0.84953 C 0.08993 0.87152 0.11598 0.88564 0.1283 0.88958 C 0.13247 0.89097 0.13577 0.89606 0.13993 0.89629 C 0.18837 0.89838 0.23664 0.89768 0.28507 0.89838 C 0.31563 0.9 0.3467 0.90416 0.37674 0.89398 C 0.38403 0.88726 0.37952 0.89027 0.38993 0.88726 C 0.39497 0.88588 0.40504 0.88287 0.40504 0.88287 C 0.41007 0.87847 0.41441 0.87708 0.41997 0.87407 C 0.42865 0.86921 0.43768 0.86203 0.4467 0.8581 C 0.45782 0.85393 0.47205 0.85301 0.48334 0.85185 C 0.42327 0.82801 0.36181 0.80764 0.30174 0.78287 C 0.24636 0.75995 0.19236 0.73125 0.13664 0.70949 C 0.09636 0.69375 0.05504 0.68379 0.01493 0.66736 C 0.01337 0.66574 0.01181 0.66389 0.01007 0.66273 C 0.00851 0.6618 0.00643 0.66203 0.00504 0.66064 C -0.00243 0.6537 -0.00694 0.64027 -0.01336 0.63148 C -0.01666 0.61759 -0.02395 0.6 -0.03159 0.58935 C -0.04236 0.55509 -0.02673 0.60139 -0.04166 0.56944 C -0.04288 0.56689 -0.04236 0.56319 -0.0434 0.56041 C -0.04461 0.55787 -0.04687 0.55625 -0.04826 0.55393 C -0.05086 0.54907 -0.0526 0.54351 -0.05503 0.53819 C -0.0618 0.51064 -0.05555 0.53796 -0.06007 0.51389 C -0.06041 0.51157 -0.06163 0.5074 -0.06163 0.5074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You 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4898880"/>
            <a:ext cx="1844640" cy="195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13600" y="3828960"/>
            <a:ext cx="2930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o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Websit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Goo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lip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Pla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133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2:08Z</dcterms:created>
  <dc:creator>CGB</dc:creator>
  <dc:description/>
  <dc:language>en-US</dc:language>
  <cp:lastModifiedBy>CGB</cp:lastModifiedBy>
  <dcterms:modified xsi:type="dcterms:W3CDTF">2008-06-11T13:53:40Z</dcterms:modified>
  <cp:revision>9</cp:revision>
  <dc:subject/>
  <dc:title>Slide 1</dc:title>
</cp:coreProperties>
</file>